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F56D-3FDB-4E49-A93C-2FB05782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7521-DDAA-42B0-A162-C4791773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1D90-BDB2-4248-87EC-FC1680BD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C8CF-9CE4-491C-A61A-15298A870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ADDD-7B70-4D2D-997E-D33AA4DCE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DF5C-BB03-4F21-BE12-76451555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457F-6360-451A-A273-E8E80DE9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0EAA-1F48-447A-8A41-9A0A782F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3F2C-2AC0-4601-A959-DE6B158F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EBE6-CD28-48B2-81B7-44390708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61F6-3662-4B33-BE81-AF729810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AA08-49A8-4796-AE75-52A7C6A1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FAC1-A3E8-4046-AA9C-14E182A7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79C8-771E-4A8C-ACBA-9C6831F7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1A03-3FF5-47CC-A6D6-10678EE6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CEBB-5DBE-4321-8E64-F9084A7E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692E-AFBB-4D20-BAF3-83AF72A6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CA76-B2C5-43CB-81BB-2A100A06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2572-23D0-43E5-886E-A67DD53B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5FE5-1B28-4D7D-9EC9-16D761D2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D25A-787F-416D-BD9B-6CDD786D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0631-D711-472E-A652-E1FBCEDC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4376-E29C-43B4-8AAA-09D64191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5619-9443-4A32-9225-CC671B8C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2A32-3D24-4102-850D-E8E1BADC504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B135-A5A3-4381-8119-ACD12F80011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2357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Дополнительно об отражении свет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Object 4"/>
          <p:cNvGraphicFramePr/>
          <p:nvPr/>
        </p:nvGraphicFramePr>
        <p:xfrm>
          <a:off x="0" y="223920"/>
          <a:ext cx="9144000" cy="642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3920"/>
                    <a:ext cx="91440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964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66"/>
                </a:solidFill>
                <a:latin typeface="Monotype Corsiva"/>
              </a:rPr>
              <a:t>ЛЮБОЗНАТЕЛЬНОСТЬ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66"/>
                </a:solidFill>
                <a:latin typeface="Monotype Corsiva"/>
              </a:rPr>
              <a:t> </a:t>
            </a:r>
            <a:r>
              <a:rPr b="1" lang="ru-RU" sz="6000" spc="-1" strike="noStrike">
                <a:solidFill>
                  <a:srgbClr val="ffff66"/>
                </a:solidFill>
                <a:latin typeface="Monotype Corsiva"/>
              </a:rPr>
              <a:t>СОЗДАЕТ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66"/>
                </a:solidFill>
                <a:latin typeface="Monotype Corsiva"/>
              </a:rPr>
              <a:t>УЧЕНЫХ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66"/>
                </a:solidFill>
                <a:latin typeface="Monotype Corsiva"/>
              </a:rPr>
              <a:t> </a:t>
            </a:r>
            <a:r>
              <a:rPr b="1" lang="ru-RU" sz="6000" spc="-1" strike="noStrike">
                <a:solidFill>
                  <a:srgbClr val="ffff66"/>
                </a:solidFill>
                <a:latin typeface="Monotype Corsiva"/>
              </a:rPr>
              <a:t>И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66"/>
                </a:solidFill>
                <a:latin typeface="Monotype Corsiva"/>
              </a:rPr>
              <a:t> </a:t>
            </a:r>
            <a:r>
              <a:rPr b="1" lang="ru-RU" sz="6000" spc="-1" strike="noStrike">
                <a:solidFill>
                  <a:srgbClr val="ffff66"/>
                </a:solidFill>
                <a:latin typeface="Monotype Corsiva"/>
              </a:rPr>
              <a:t>ПОЭТОВ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285920" y="356760"/>
            <a:ext cx="71438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ff"/>
                </a:solidFill>
                <a:latin typeface="Bookman Old Style"/>
              </a:rPr>
              <a:t>Чудный дар природы вечно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ff"/>
                </a:solidFill>
                <a:latin typeface="Bookman Old Style"/>
              </a:rPr>
              <a:t>Дар бесценный и святой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ff"/>
                </a:solidFill>
                <a:latin typeface="Bookman Old Style"/>
              </a:rPr>
              <a:t>В нем источник бесконеч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ff"/>
                </a:solidFill>
                <a:latin typeface="Bookman Old Style"/>
              </a:rPr>
              <a:t>Наслажденье красото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ff"/>
                </a:solidFill>
                <a:latin typeface="Bookman Old Style"/>
              </a:rPr>
              <a:t>Небо, солнце, звезд сиянь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ff"/>
                </a:solidFill>
                <a:latin typeface="Bookman Old Style"/>
              </a:rPr>
              <a:t>Море  в блеске голубом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ff"/>
                </a:solidFill>
                <a:latin typeface="Bookman Old Style"/>
              </a:rPr>
              <a:t>Всю картину мироздань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ff"/>
                </a:solidFill>
                <a:latin typeface="Bookman Old Style"/>
              </a:rPr>
              <a:t>Мы лишь в свете позна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0" y="-162000"/>
            <a:ext cx="9144000" cy="70135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4648320" y="1030320"/>
            <a:ext cx="380880" cy="457200"/>
          </a:xfrm>
          <a:prstGeom prst="rect">
            <a:avLst/>
          </a:prstGeom>
          <a:solidFill>
            <a:srgbClr val="1111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0"/>
          <a:ext cx="208080" cy="66880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68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Rectangle 17"/>
          <p:cNvSpPr/>
          <p:nvPr/>
        </p:nvSpPr>
        <p:spPr>
          <a:xfrm>
            <a:off x="1800" y="66877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3"/>
          <p:cNvGraphicFramePr/>
          <p:nvPr/>
        </p:nvGraphicFramePr>
        <p:xfrm>
          <a:off x="-252360" y="-766800"/>
          <a:ext cx="9396360" cy="762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2360" y="-766800"/>
                    <a:ext cx="9396360" cy="762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lunnajadorojka_1024"/>
          <p:cNvPicPr/>
          <p:nvPr/>
        </p:nvPicPr>
        <p:blipFill>
          <a:blip r:embed="rId1"/>
          <a:stretch/>
        </p:blipFill>
        <p:spPr>
          <a:xfrm>
            <a:off x="0" y="146160"/>
            <a:ext cx="9396360" cy="67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ff00"/>
                </a:solidFill>
                <a:uFillTx/>
                <a:latin typeface="Palatino Linotype"/>
              </a:rPr>
              <a:t>ЗАКОНЫ ОТРАЖЕНИЯ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42960" y="2420640"/>
            <a:ext cx="804384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Bookman Old Style"/>
              </a:rPr>
              <a:t>Угол падения равен углу Отра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1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Bookman Old Style"/>
              </a:rPr>
              <a:t>Падающий луч, перпендикуляр востановленный  из точки падения и отраженный луч лежат в одной плоск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ff00"/>
                </a:solidFill>
                <a:uFillTx/>
                <a:latin typeface="Palatino Linotype"/>
              </a:rPr>
              <a:t>ВИДЫ</a:t>
            </a:r>
            <a:br>
              <a:rPr sz="5400"/>
            </a:br>
            <a:r>
              <a:rPr b="0" lang="ru-RU" sz="5400" spc="-1" strike="noStrike" u="sng">
                <a:solidFill>
                  <a:srgbClr val="ffff00"/>
                </a:solidFill>
                <a:uFillTx/>
                <a:latin typeface="Palatino Linotype"/>
              </a:rPr>
              <a:t> ОТРАЖЕНИЯ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2712600"/>
            <a:ext cx="75438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ДИФФУЗНО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ЗЕРКАЛЬНО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fff00"/>
                </a:solidFill>
                <a:uFillTx/>
                <a:latin typeface="Trebuchet MS"/>
              </a:rPr>
              <a:t>ИЗОБРАЖЕНИЕ В </a:t>
            </a:r>
            <a:br>
              <a:rPr sz="4400"/>
            </a:br>
            <a:r>
              <a:rPr b="0" i="1" lang="ru-RU" sz="4400" spc="-1" strike="noStrike" u="sng">
                <a:solidFill>
                  <a:srgbClr val="ffff00"/>
                </a:solidFill>
                <a:uFillTx/>
                <a:latin typeface="Trebuchet MS"/>
              </a:rPr>
              <a:t>ПЛОСКОМ ЗЕРКАЛ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Black"/>
              </a:rPr>
              <a:t>МНИМ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c00"/>
                </a:solidFill>
                <a:latin typeface="Arial Black"/>
              </a:rPr>
              <a:t>ПРЯМ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Black"/>
              </a:rPr>
              <a:t>РАВНОЕ ПРЕДМЕТ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РАСПОЛОЖЕНО СИММЕТРИЧ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Black"/>
              </a:rPr>
              <a:t>ПРАВОЕ 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            </a:t>
            </a:r>
            <a:r>
              <a:rPr b="1" lang="ru-RU" sz="3200" spc="-1" strike="noStrike">
                <a:solidFill>
                  <a:srgbClr val="ffff00"/>
                </a:solidFill>
                <a:latin typeface="Arial Black"/>
              </a:rPr>
              <a:t>ЛЕВ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2843280" y="458136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77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77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7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7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 u="sng">
                <a:solidFill>
                  <a:srgbClr val="99ff99"/>
                </a:solidFill>
                <a:uFillTx/>
                <a:latin typeface="Bookman Old Style"/>
              </a:rPr>
              <a:t>ПРИМЕНЕНИЕ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7c80"/>
                </a:solidFill>
                <a:latin typeface="Tahoma"/>
              </a:rPr>
              <a:t>ВОЕННАЯ ТЕХНИКА (ПЕРЕСКОП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ff"/>
                </a:solidFill>
                <a:latin typeface="Tahoma"/>
              </a:rPr>
              <a:t>ЗЕРКАЛЬНЫЕ ШКАЛЫ В ГАЛЬВАНОМЕТРАХ И БАРОМЕТР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ff33"/>
                </a:solidFill>
                <a:latin typeface="Tahoma"/>
              </a:rPr>
              <a:t>ТРАНСПОР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ЦИРК (ГОВОРЯЩАЯ ГОЛОВ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11:42:31Z</dcterms:created>
  <dc:creator>Администратор</dc:creator>
  <dc:description/>
  <dc:language>en-US</dc:language>
  <cp:lastModifiedBy>Шандер</cp:lastModifiedBy>
  <dcterms:modified xsi:type="dcterms:W3CDTF">2010-06-07T13:04:58Z</dcterms:modified>
  <cp:revision>10</cp:revision>
  <dc:subject/>
  <dc:title>Слайд 1</dc:title>
</cp:coreProperties>
</file>